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1339513" cy="6886575"/>
  <p:notesSz cx="123444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23444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534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6993000" y="0"/>
            <a:ext cx="5348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3913200" y="549360"/>
            <a:ext cx="451800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1235160" y="3474720"/>
            <a:ext cx="987408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6948000"/>
            <a:ext cx="5349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6993000" y="6948000"/>
            <a:ext cx="5348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BAA-2E9D-490A-9AA6-26C5CC055B30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913200" y="549360"/>
            <a:ext cx="4518000" cy="27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235160" y="3474720"/>
            <a:ext cx="987408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 around the name textbox will disappear once you replace the placehol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993000" y="6948360"/>
            <a:ext cx="5348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C334-C98F-4F79-8769-DF7E8EC5790F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76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6856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70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176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46856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54360" y="4884840"/>
            <a:ext cx="46087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760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8560" y="16113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70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1760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468560" y="3697560"/>
            <a:ext cx="328608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54360" y="4884840"/>
            <a:ext cx="46087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96720" y="36975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11360"/>
            <a:ext cx="498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697560"/>
            <a:ext cx="102056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tretch/>
        </p:blipFill>
        <p:spPr>
          <a:xfrm>
            <a:off x="239760" y="133200"/>
            <a:ext cx="10896480" cy="662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"/>
          <p:cNvPicPr/>
          <p:nvPr/>
        </p:nvPicPr>
        <p:blipFill>
          <a:blip r:embed="rId2"/>
          <a:stretch/>
        </p:blipFill>
        <p:spPr>
          <a:xfrm>
            <a:off x="239760" y="133200"/>
            <a:ext cx="10896480" cy="662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"/>
          <p:cNvPicPr/>
          <p:nvPr/>
        </p:nvPicPr>
        <p:blipFill>
          <a:blip r:embed="rId3"/>
          <a:stretch/>
        </p:blipFill>
        <p:spPr>
          <a:xfrm>
            <a:off x="231840" y="123840"/>
            <a:ext cx="10910880" cy="663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4360" y="4884840"/>
            <a:ext cx="460872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67000" y="1611360"/>
            <a:ext cx="10205640" cy="39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86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2602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43240" indent="-2602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43240" indent="-2602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30720" y="5063760"/>
            <a:ext cx="3960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86000" y="157176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30720" y="5100120"/>
            <a:ext cx="3960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986000" y="157176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48:41Z</dcterms:created>
  <dc:creator>The Wynford Group Inc.</dc:creator>
  <dc:description/>
  <cp:keywords/>
  <dc:language>en-US</dc:language>
  <cp:lastModifiedBy>Abe Lee</cp:lastModifiedBy>
  <dcterms:modified xsi:type="dcterms:W3CDTF">2018-02-09T21:09:58Z</dcterms:modified>
  <cp:revision>15</cp:revision>
  <dc:subject/>
  <dc:title>Slide 1</dc:title>
</cp:coreProperties>
</file>